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30D-0F31-4636-B85C-BB8ABECD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07C-7FAB-4C1A-834E-58E93E5D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83D-B89C-4589-8B91-C08AAD39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8CB-75D8-4A2A-A1BC-C3B94037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A97-6CCC-4105-8C91-85263B40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FD0-5BB3-47EF-9379-B0F4AE7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388-3798-4965-948A-0DD41B56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97F-BEC6-4EFF-BC71-71033747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02C-F77D-4316-B7F1-BACD8CC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484-97FF-469E-BE21-CDF5BA8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B40-7433-4C31-8A09-0069DBA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292-86B7-4B99-B047-F4B7877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1CC-EA84-47F4-BB36-01858F261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BORATORIOS%20BE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U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2590920"/>
            <a:ext cx="3352680" cy="129528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10800000"/>
          </a:gra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819520"/>
            <a:ext cx="3276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HOY                                17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0384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10800000"/>
          </a:gra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267080"/>
            <a:ext cx="3276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2010                 2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52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cc66"/>
                </a:solidFill>
                <a:latin typeface="Arial Black"/>
              </a:rPr>
              <a:t>DIABETES                       EN EL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rgentina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0" y="1371600"/>
            <a:ext cx="6324480" cy="43434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57200"/>
            <a:ext cx="541044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5335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PREVALENCIA                                   EN ARGEN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530440"/>
            <a:ext cx="2666880" cy="205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ff"/>
                </a:solidFill>
                <a:latin typeface="Arial Black"/>
              </a:rPr>
              <a:t>19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ff"/>
                </a:solidFill>
                <a:latin typeface="Arial Black"/>
              </a:rPr>
              <a:t>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77344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6 al 7%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8 al 9 %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3657600"/>
            <a:ext cx="51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219320"/>
          <a:ext cx="792792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92792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47920" y="0"/>
            <a:ext cx="6324480" cy="2209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06668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99"/>
                </a:solidFill>
                <a:latin typeface="Arial Black"/>
              </a:rPr>
              <a:t>EVOLUCION PARTICIPACION EN U.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99"/>
                </a:solidFill>
                <a:latin typeface="Arial Black"/>
              </a:rPr>
              <a:t>INSULINAS HU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ccff"/>
                </a:solidFill>
                <a:latin typeface="Arial Black"/>
              </a:rPr>
              <a:t>Producción Actual de Insulinas Animales y Humana en Laboratorios Be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Se requieren 30 T de páncreas porcino para obtener 1Kg de insulina hum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Extracción de insulina a partir de tejido pancreático en Cañada Rosquí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Proceso de conversión química para pasar de insulina porcina a humana en área farmoquímica de Buenos 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Purificación de Insulina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Control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Formulación del producto (NPH, Corriente, Len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Empa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1996920"/>
            <a:ext cx="7925040" cy="522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 Narrow"/>
                <a:ea typeface="Arial"/>
              </a:rPr>
              <a:t> 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  <a:ea typeface="Arial"/>
              </a:rPr>
              <a:t>La mayor parte de las insulinas humanas que se comercializan actualmente son producidas en bacterias o levaduras genéticamente modific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  <a:ea typeface="Arial"/>
              </a:rPr>
              <a:t>Este producto ha reemplazado a la mayor parte de las insulinas obtenidas a partir de páncreas bovinos y porci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57200"/>
            <a:ext cx="6858000" cy="197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 Black"/>
                <a:ea typeface="Arial"/>
              </a:rPr>
              <a:t>Insulina Recombin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s-MX" sz="3600" spc="-1" strike="noStrike">
                <a:solidFill>
                  <a:srgbClr val="ffffff"/>
                </a:solidFill>
                <a:latin typeface="Arial Black"/>
                <a:ea typeface="Arial"/>
              </a:rPr>
              <a:t>Estado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543800" cy="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267080"/>
            <a:ext cx="7543800" cy="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6248520"/>
            <a:ext cx="7543800" cy="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nsulina%20recombinan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380880"/>
            <a:ext cx="7620120" cy="61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cc99"/>
                </a:solidFill>
                <a:latin typeface="Arial Black"/>
              </a:rPr>
              <a:t>ORIGEN DEL PROYEC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Año 1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Arial Black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Producir Insulina Humana por ingenieria ge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Volúmenes de producción acorde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La calidad del producto debe satisfacer los requerimientos de la farmac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Costo de producción conveniente para la Compañí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Buscar la posibilidad de Pat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Black"/>
              </a:rPr>
              <a:t>ESTRATEGIAS DIFER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Producción masi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Optimización de las par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Orientado al produc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Decisiones y control centraliz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Planificación a corto plaz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Cantidad= Perfom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Competencia inter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Producción estratég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Optimización del to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Orientado al proce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Decisiones y control descentraliz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Planificación a largo plaz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Calidad = Perfom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cc"/>
                </a:solidFill>
                <a:latin typeface="Arial Narrow"/>
              </a:rPr>
              <a:t>Trabajo en equi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6002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Black"/>
              </a:rPr>
              <a:t>LOS TÉRMINOS CALIDAD, SISTEMAS DE CALIDAD, ASEGURAMIENTO DE CALIDAD TIENEN COMO PRINCIPALE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190600"/>
            <a:ext cx="8381880" cy="37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Reducir d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Reducir tiem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Reducir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s-AR" sz="3600" spc="-1" strike="noStrike">
                <a:solidFill>
                  <a:srgbClr val="ffffcc"/>
                </a:solidFill>
                <a:latin typeface="Arial Narrow"/>
              </a:rPr>
              <a:t>Garantizar una producción con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5146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 Black"/>
              </a:rPr>
              <a:t>GENERALIDADES DE GMP Y SISTEMAS DE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890720"/>
            <a:ext cx="7924680" cy="45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POR QUÉ UN SISTEMA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Asegurar la calidad y eficacia del medic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Cumplimiento regul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Compromiso de la G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Participación y concientización de todo 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Instalaciones adecu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AR" sz="2400" spc="-1" strike="noStrike">
                <a:solidFill>
                  <a:srgbClr val="ffffcc"/>
                </a:solidFill>
                <a:latin typeface="Arial Narrow"/>
              </a:rPr>
              <a:t>Debe incluir el compromiso de proveedores y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7920"/>
            <a:ext cx="91440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267080"/>
            <a:ext cx="7543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787400" indent="-130788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ABORATORIOS%20BETA" descr=""/>
          <p:cNvPicPr/>
          <p:nvPr/>
        </p:nvPicPr>
        <p:blipFill>
          <a:blip r:embed="rId3"/>
          <a:stretch/>
        </p:blipFill>
        <p:spPr>
          <a:xfrm>
            <a:off x="2209680" y="-63360"/>
            <a:ext cx="4648320" cy="349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4191120"/>
            <a:ext cx="579096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800600"/>
            <a:ext cx="579096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791320"/>
            <a:ext cx="579096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86400" y="3610080"/>
            <a:ext cx="35884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 Black"/>
              </a:rPr>
              <a:t>Presentación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undada en el año 19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ño de adqui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tual conducción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rabaja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fondo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COSTO DE ENTREN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cc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ccff"/>
                </a:solidFill>
                <a:latin typeface="Arial Narrow"/>
              </a:rPr>
              <a:t>El personal involucrado es altamente calificado y de dedicación exclusiva a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cc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ccff"/>
                </a:solidFill>
                <a:latin typeface="Arial Narrow"/>
              </a:rPr>
              <a:t>El entrenamiento de estos profesionales se lleva a cabo antes del desarrollo de la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cc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ccff"/>
                </a:solidFill>
                <a:latin typeface="Arial Narrow"/>
              </a:rPr>
              <a:t>El entrenamiento contempla familiarizarse con los aspectos particulares del proyecto, los estándares, procedimiento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cc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ccff"/>
                </a:solidFill>
                <a:latin typeface="Arial Narrow"/>
              </a:rPr>
              <a:t>Responsables de etapas claves dentro del proceso</a:t>
            </a:r>
            <a:r>
              <a:rPr b="1" lang="es-MX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828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ccff"/>
                </a:solidFill>
                <a:latin typeface="Arial Black"/>
              </a:rPr>
              <a:t>COSTO DE PRE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Para minimizar el número de errores en este proyecto se lleva a cobo la planificación del alcance, el costo, la perfomance y la duración necesaria para cumplimentar los requerimientos orig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Entr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Brainstorming frecuentes con participació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Scaling Up para evaluar la capacidad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Reuniones con provee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Mejora Contin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El proceso debe estar perfectamente documentado y estandar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El proceso se divide en subprocesos y cada uno tiene un responsable que evalúa su perfo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La mejora se establece a través de PD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 Black"/>
              </a:rPr>
              <a:t>BÚSQUEDA DE    ESTÁNDARES RELEV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Establecer una filosofía de mediciones y utilizarla para evaluar y mejorar la calidad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Se desarrollaron indicadores de calidad basados en mediciones cualitativas y cuantitativas para cada una de las etapas o sub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Se establecieron métodos de seguimiento de estos resultados a lo largo de todo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Finalmente se establece un estándar de calidad validable para nuestro proceso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752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 Black"/>
              </a:rPr>
              <a:t>SEMISINTETICA VS RECOMBI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981080"/>
            <a:ext cx="2971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33cc"/>
                </a:solidFill>
                <a:latin typeface="Arial Black"/>
              </a:rPr>
              <a:t>T I E M P 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Procesamiento de 30 T de páncreas en Cañada Rosquín   =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Purificación de 1 Kg de insulina semisintética en Lab. Beta  = 3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Total: 45 días para elaborar 1 Kg de insulina semisin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Fermentación y Purificación se llevan a cabo simultá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Total: 25 días para producir 1 Kg de insulina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ondo" descr=""/>
          <p:cNvPicPr/>
          <p:nvPr/>
        </p:nvPicPr>
        <p:blipFill>
          <a:blip r:embed="rId1"/>
          <a:stretch/>
        </p:blipFill>
        <p:spPr>
          <a:xfrm>
            <a:off x="1440" y="-1116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 Black"/>
              </a:rPr>
              <a:t>SEMISINTÉTICA VS RECOMBI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752480"/>
            <a:ext cx="2895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76520"/>
            <a:ext cx="8305560" cy="55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99ff"/>
                </a:solidFill>
                <a:latin typeface="Arial Black"/>
              </a:rPr>
              <a:t>I N S U M 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Páncreas porcino y solventes químicos para la extracción del   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Cadena de 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Reactivos químicos para la conversión de insulina porcina a  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Rellenos Cromatográficos para la purific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Medio de fermentación: agua y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Rellenos Cromatográficos y reactivos químicos para la   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model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cc"/>
                </a:solidFill>
                <a:latin typeface="Arial Black"/>
              </a:rPr>
              <a:t>GMP = BP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Arial Unicode MS"/>
              </a:rPr>
              <a:t>Disminuir o Eliminar la Posibilidad de Cometer Errores en el Diseño, Desarrollo, Fabricación, Control, Liberación y Distribución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19051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cc99"/>
                </a:solidFill>
                <a:latin typeface="Arial Black"/>
              </a:rPr>
              <a:t>BUENAS PRÁCTICAS DE FABRICACIÓN Y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Manufactura: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 proc. especificados y consist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Validación: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 pasos críticos y control de camb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Personal: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 entre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Instalaciones y equipos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: adecuados y cal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Procedimientos: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 escritos y aprob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Registros del proceso: </a:t>
            </a:r>
            <a:r>
              <a:rPr b="0" lang="es-MX" sz="2800" spc="-1" strike="noStrike">
                <a:solidFill>
                  <a:srgbClr val="ffffcc"/>
                </a:solidFill>
                <a:latin typeface="Arial Narrow"/>
              </a:rPr>
              <a:t>manuales o auto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Desvi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Traz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Recl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6765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752480"/>
            <a:ext cx="822960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80880"/>
            <a:ext cx="70866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 Black"/>
              </a:rPr>
              <a:t>Evolución Participación Mercado Etico Argentin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271600"/>
            <a:ext cx="3178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 Black"/>
              </a:rPr>
              <a:t>Enero198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271600"/>
            <a:ext cx="4114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 Black"/>
              </a:rPr>
              <a:t>Diciembre 200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27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0000"/>
                </a:solidFill>
                <a:latin typeface="Arial Black"/>
              </a:rPr>
              <a:t>0,59 %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55880" y="2895480"/>
            <a:ext cx="27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d60093"/>
                </a:solidFill>
                <a:latin typeface="Arial Black"/>
              </a:rPr>
              <a:t>2,79 %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133720"/>
            <a:ext cx="3352680" cy="167616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133720"/>
            <a:ext cx="3962520" cy="167616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038480"/>
            <a:ext cx="77724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 Black"/>
              </a:rPr>
              <a:t>Mercado Etico mensual actual en pes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 Black"/>
              </a:rPr>
              <a:t>288.000.00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 Black"/>
              </a:rPr>
              <a:t>Fuente PMA Dic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fermentació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anta%20Fé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cc66"/>
                </a:solidFill>
                <a:latin typeface="Arial Black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447920"/>
            <a:ext cx="8077320" cy="61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Cepas de microorganismos genéticamente modificados para               producir insulina humana “ABSOLUTAMENTE ESTABL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El sistema desarrollado es óptimo para el escalado a altos  volúmenes de 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El procedimiento de purificación da como resultado  insulina humana de “ALTÍSIMA CALIDAD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Este diseño utiliza insumos que reducen el costo de produc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500" spc="-1" strike="noStrike">
                <a:solidFill>
                  <a:srgbClr val="ffffff"/>
                </a:solidFill>
                <a:latin typeface="Arial Narrow"/>
              </a:rPr>
              <a:t>Se ha presentado una solicitud de patente de procedimiento en Argentina y en el resto del mundo que nos brinda resguardo legal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edico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76320"/>
            <a:ext cx="769644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88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Arial Narrow"/>
              </a:rPr>
              <a:t>Nuestro compromiso con el mé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600200"/>
            <a:ext cx="51814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cc"/>
                </a:solidFill>
                <a:latin typeface="Arial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formación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66"/>
                </a:solidFill>
                <a:latin typeface="Arial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ormación de Especialis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aboración con la 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teneos para Clínicos Méd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Arial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sistencia a Co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Visita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acien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9480" y="152280"/>
            <a:ext cx="769644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Arial Narrow"/>
              </a:rPr>
              <a:t>Nuestro compromiso con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1676520"/>
            <a:ext cx="5486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6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AP LINEA 0-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000 pacientes regist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66"/>
                </a:solidFill>
                <a:latin typeface="Arial"/>
              </a:rPr>
              <a:t>7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harlas a pacientes y enferm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00"/>
                </a:solidFill>
                <a:latin typeface="Arial"/>
              </a:rPr>
              <a:t>8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stencia en Campañas de Detección de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Arial"/>
              </a:rPr>
              <a:t>9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eposición de aplicadores (BETAP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ores de Gluc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osición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Arial"/>
              </a:rPr>
              <a:t>10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aterial Gráfico - Dietas - Ejerc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clusiones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2133720"/>
            <a:ext cx="8381880" cy="430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Narrow"/>
              </a:rPr>
              <a:t>BETA cuenta con una línea establecida de productos, y está sólidamente posicionada en el mercado farmacéutico argentin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Narrow"/>
              </a:rPr>
              <a:t>BETA es una empresa que ha llevado a cabo desarrollos innovadores que se tradujeron en éxitos comerci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Narrow"/>
              </a:rPr>
              <a:t>BETA es líder en el mercado de insulinas, el único productor de insulinas en Argentina y una de las pocas empresas en el mundo que produce las tres especies de insulin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Narrow"/>
              </a:rPr>
              <a:t>El crecimiento sostenido de la Línea Insulinas Beta está sustentado  en tres bases:                                                                                               calidad / precio / abastecimiento ininterrumpi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conclusiones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69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2133720"/>
            <a:ext cx="8381880" cy="43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La elaboración de insulina por vía recombinante permitirá a BETA recuperar la rentabilidad del producto y duplicar la capacidad productiv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BETA podría abastecer el mercado global de Argentina en caso de retirarse las empresas multinaciona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BETA tiene como objetivo próximo la introducción de     insulina humana recombinante en el mercado, pero tiene en desarrollo otros productos biotecnológicos que podrán ser producidos en la nueva plant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ÑADA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ARATU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A%20RIOJA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1371600"/>
            <a:ext cx="8001000" cy="4572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57200"/>
            <a:ext cx="43434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514600"/>
            <a:ext cx="7848360" cy="39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5000"/>
              </a:lnSpc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 Black"/>
              </a:rPr>
              <a:t>Incorporación de Productos con Moléculas de Ultima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 Black"/>
              </a:rPr>
              <a:t>Desarrollar Productos con Innovación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5000"/>
              </a:lnSpc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09480"/>
            <a:ext cx="54100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b2b2b2"/>
                </a:solidFill>
                <a:latin typeface="Arial Black"/>
              </a:rPr>
              <a:t>Estrategia de Crecimiento</a:t>
            </a:r>
            <a:r>
              <a:rPr b="0" lang="es-ES_tradnl" sz="3400" spc="-1" strike="noStrike">
                <a:solidFill>
                  <a:srgbClr val="b2b2b2"/>
                </a:solidFill>
                <a:latin typeface="Arial Black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1838160"/>
            <a:ext cx="7620120" cy="49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990099"/>
              </a:buClr>
              <a:buFont typeface="Arial Black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Lanzamiento de Insulina Bovina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(Enero 198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990099"/>
              </a:buClr>
              <a:buFont typeface="Arial Black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Lanzamiento de Insulina Porcina       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(Julio 198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990099"/>
              </a:buClr>
              <a:buFont typeface="Arial Black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Lanzamiento de Insulina Humana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(Octubre 199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990099"/>
              </a:buClr>
              <a:buFont typeface="Arial Black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Lanzamiento 1er. Sistema de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Administración Transdermal 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	</a:t>
            </a:r>
            <a:r>
              <a:rPr b="0" lang="es-MX" sz="2600" spc="-1" strike="noStrike">
                <a:solidFill>
                  <a:srgbClr val="ccccff"/>
                </a:solidFill>
                <a:latin typeface="Arial Black"/>
              </a:rPr>
              <a:t>monolítico (Noviembre 198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ccccff"/>
              </a:buClr>
              <a:buFont typeface="Arial Black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7543800" cy="4876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609480"/>
            <a:ext cx="601956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762120"/>
            <a:ext cx="6705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cc66"/>
                </a:solidFill>
                <a:latin typeface="Arial Black"/>
              </a:rPr>
              <a:t>Objetivos alcanzad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LUM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3000" y="2286000"/>
            <a:ext cx="13716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200400"/>
            <a:ext cx="1371600" cy="457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3886200"/>
            <a:ext cx="13716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495680"/>
            <a:ext cx="1371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5181480"/>
            <a:ext cx="137160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7238880" cy="33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1 -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INEA ANTIINFLAMATORIA /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ANTIRREU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2 -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INEA METABO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3 -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INEA NEUROPSIQUIA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4 -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INEA GINEC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5 -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INEA GASTROENTE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685800"/>
            <a:ext cx="69343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838080"/>
            <a:ext cx="7162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 Black"/>
              </a:rPr>
              <a:t>LINEAS DE PRODUCTOS 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7:28:05Z</dcterms:created>
  <dc:creator>Laboratorios Beta S.A.</dc:creator>
  <dc:description/>
  <dc:language>en-US</dc:language>
  <cp:lastModifiedBy>Dr. Marcelo Artana</cp:lastModifiedBy>
  <dcterms:modified xsi:type="dcterms:W3CDTF">2003-04-16T13:14:59Z</dcterms:modified>
  <cp:revision>48</cp:revision>
  <dc:subject/>
  <dc:title>ASEGURAMIENTO DE LA CALIDAD</dc:title>
</cp:coreProperties>
</file>